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ABE-0D5C-4AB5-95CD-5A00BB98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B8A-102C-40E7-A42D-FD8F0B4A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F64-D46E-4E8F-A3E8-8BB236B9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AFF-86AA-4492-B7FD-4528F6E0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EF1-06E4-4809-8DA0-90F8FDE5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BD5-2386-4668-BBB2-D22E56BE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9456-DD62-4AA3-BA38-E9FC2A1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E7A1-A236-4D80-8196-7F00F8A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0AF5-CABA-4444-8E41-804C115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AF54-2996-4C62-90EF-B04DA3B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A3E2-A91B-4E1B-A6B7-4731CA3D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F63B-4103-4152-98A3-4E8A9F48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76D9-012A-439E-AE22-6874023A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495E-4586-4E1F-8AC6-C5ED3359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124-E589-4381-898B-8F1902A2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A8C9-9FB2-4FD9-AE87-E9E61D93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88A-1866-4462-8051-F7B5E2A5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62A-433E-4A3C-93DC-D97D7DFD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940-847D-4844-8738-9960E51F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2E2C-2A1A-4E5F-B029-3039EF02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017-C41F-4A30-8EFD-28F8D5CA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C97-52AA-451A-A4B2-504C58C3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9C3-9092-4B32-9CE5-F81BC108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601-C12E-420A-BD09-178EA9E3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8372-BDC0-4466-B710-629BD1148BD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F71-EE82-4850-A969-EF9B0A07CC01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5b2ff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1752480"/>
            <a:ext cx="4419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Dad</cp:lastModifiedBy>
  <dcterms:modified xsi:type="dcterms:W3CDTF">2009-02-05T23:56:25Z</dcterms:modified>
  <cp:revision>29</cp:revision>
  <dc:subject/>
  <dc:title>To Kill a Mockingbird</dc:title>
</cp:coreProperties>
</file>